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792C-E87C-4217-B2D0-784487B0A3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06C2-6DF9-4F84-875E-ADFCF0DDC4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257480" y="720720"/>
            <a:ext cx="4800600" cy="3600360"/>
          </a:xfrm>
          <a:prstGeom prst="rect">
            <a:avLst/>
          </a:prstGeom>
          <a:ln w="0">
            <a:noFill/>
          </a:ln>
        </p:spPr>
      </p:sp>
      <p:sp>
        <p:nvSpPr>
          <p:cNvPr id="6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A451-810A-47E8-8F05-4C5B00728D8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F855-8387-491C-9F79-DC26A8983F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aska tectonics and earthquakes </a:t>
            </a:r>
            <a:r>
              <a:rPr b="0" lang="en-US" sz="1200" spc="-1" strike="noStrike">
                <a:solidFill>
                  <a:srgbClr val="0070c0"/>
                </a:solidFill>
                <a:latin typeface="Calibri"/>
              </a:rPr>
              <a:t>http://www.iris.edu/hq/inclass/animation/alaska_tectonics_and_earthquakes</a:t>
            </a:r>
            <a:endParaRPr b="0" lang="en-US" sz="1200" spc="-1" strike="noStrike">
              <a:solidFill>
                <a:srgbClr val="000000"/>
              </a:solidFill>
              <a:latin typeface="Calibri"/>
            </a:endParaRPr>
          </a:p>
        </p:txBody>
      </p:sp>
      <p:sp>
        <p:nvSpPr>
          <p:cNvPr id="6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04D2-DC29-48A9-B410-B385A5E2B0A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Regional Seismotectonics Animation:  http://www.iris.edu/hq/programs/education_and_outreach/animations/34</a:t>
            </a:r>
            <a:endParaRPr b="0" lang="en-US" sz="1200" spc="-1" strike="noStrike">
              <a:solidFill>
                <a:srgbClr val="000000"/>
              </a:solidFill>
              <a:latin typeface="Calibri"/>
            </a:endParaRPr>
          </a:p>
        </p:txBody>
      </p:sp>
      <p:sp>
        <p:nvSpPr>
          <p:cNvPr id="6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D108-E0DA-47DF-A9AE-D0499E03FD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evant animation: </a:t>
            </a:r>
            <a:r>
              <a:rPr b="0" lang="en-US" sz="1200" spc="-1" strike="noStrike">
                <a:solidFill>
                  <a:srgbClr val="000000"/>
                </a:solidFill>
                <a:latin typeface="Calibri"/>
              </a:rPr>
              <a:t>Great</a:t>
            </a:r>
            <a:r>
              <a:rPr b="1" lang="en-US" sz="1200" spc="-1" strike="noStrike">
                <a:solidFill>
                  <a:srgbClr val="000000"/>
                </a:solidFill>
                <a:latin typeface="Calibri"/>
              </a:rPr>
              <a:t> </a:t>
            </a:r>
            <a:r>
              <a:rPr b="0" lang="en-US" sz="1200" spc="-1" strike="noStrike">
                <a:solidFill>
                  <a:srgbClr val="000000"/>
                </a:solidFill>
                <a:latin typeface="Calibri"/>
              </a:rPr>
              <a:t>Alaska Earthquake of 1964 (http://www.iris.edu/hq/inclass/animation/alaska_the_great_alaska_earthquake_of_1964)</a:t>
            </a:r>
            <a:endParaRPr b="0" lang="en-US" sz="1200" spc="-1" strike="noStrike">
              <a:solidFill>
                <a:srgbClr val="000000"/>
              </a:solidFill>
              <a:latin typeface="Calibri"/>
            </a:endParaRPr>
          </a:p>
        </p:txBody>
      </p:sp>
      <p:sp>
        <p:nvSpPr>
          <p:cNvPr id="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817F-879B-49DD-A002-F7055257B3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05AD-B395-4C63-BDA4-ED59C7C504A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96E4-0FD8-4F0A-A6C9-B8B01002E5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3AA9D-067C-487F-8929-BA5864E6F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F026-90F9-4EC5-BBBD-91CCB47B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675248-4631-48BC-8706-6B6B890F9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8EB3A4-923A-48DE-BB78-5B6CF8FE9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6C2F5-ABE8-4610-B4F0-8186FE370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6EFEB-8356-4F16-AD8D-7915770136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19D1D5-CC8E-4826-AEEA-CB6A715C7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D097B-133E-4F46-A64A-1D1DEA61E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8F9143-2B7E-4B90-B9F4-85DF15562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C4B10E-1BBC-42BF-8CD7-58778EEF2D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D80215-A549-40C5-8464-8A25E628C6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C66914-DE45-42D1-819C-EF0FEEA5CE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9DE47-61B1-42ED-A0DE-7432F0B0F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49EE32-74D6-4BC8-ABFE-8DFA7528B2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D9F82B-B214-43E8-9990-D894ADE375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CFBEF5-942F-43CC-B886-E94E65B65C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7B5FD8-BD31-4179-9F79-5DC63DBDCE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B7C899-66D9-457E-A4E6-707BBC58F9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CF89C8-95C8-459E-865E-C38F9BDB92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01A18F-F307-43A1-8D44-664795A8F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3FD51E-1122-49C1-A802-89AB74553C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E26AC3-9E14-4C72-88B1-B6D53E59CA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BB5363-23B5-428F-B8A1-7C6B91F0C8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07FA8-31C4-4426-B3CA-2EFD5BD87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D45022-F70C-4464-BB0C-07B5AA31D6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74DBDE-080E-492E-A087-151C4DDAC6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667165-2BF6-4567-992D-E0E8C66CC4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D0520B-FA86-4418-8DFA-1432D2719C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2878B8-E274-42AB-9462-2AB65875D9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9FC97C-33AD-4661-9335-FEB22E174F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21CC5A-A8EE-4061-B2F5-870E3E31A8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1CDC07-B61D-40C6-BAAC-A42730F4ED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253AF8-A361-410A-87A1-DBB223AD75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5C7953-7A19-4BBB-AFF8-53FC3A364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EE63-8157-4E62-B995-8A3015E55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85FED1-4BE8-4985-929B-E70282998D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B0EFD8-EDA5-4688-879F-D26A7AB3C7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B8346C-0EE1-4009-9BC2-E93ACE9428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6FCFA5-5BF7-4CE9-9FD9-13EE9EABCB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BA5B47-2061-4FB4-A758-4A6AF71BC8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38AB43-4D67-4632-9AF0-ADE5255FFA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2CF84F-CC5F-426E-BF40-D62F63EAEB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FF30BB-9A03-4075-9354-81EF7D11A4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44B425-B0AC-4875-9013-A26396D2EF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13B52A-2979-4FC8-9BAA-A28BF38862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24B02-E3C0-4FB2-824D-E1205BFE8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6AA5BE-9F40-4575-B294-84D92B96DC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53694B-23F6-4F0B-8708-F3EAAB13BD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327765-43B0-4BCC-8436-332C4EA4DF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EDC98C-CB29-4EC8-BC3F-EE3F9B9E97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79EA91-68E7-4BE7-9D3A-649DBEC08D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7ECD53-A6EB-4A70-B350-34677F3E4B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6AFCBD-59C3-40FB-994D-935F4B24FE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F6EF5E-9E4B-4FD8-9098-F6D490FC0C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758BB3-5325-414A-8DBC-CC553028D7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FF2655-9147-460A-A207-9243A972AE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D57C5-555A-4620-B616-C274B9CAE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719939-FF57-4EA0-B766-101053F2B8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74FB6A-7C64-421E-8619-E06744F4D7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DF5F52-F941-47B3-BF30-FC9C8397EB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F1CD34-1E49-4C3E-A00B-E22A8BE4B9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443307-20B1-4D14-8AC1-93A4F6AC1F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C9E18F-BD15-4F35-8930-65B7E9BED6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BE5162-5515-4EE6-BC79-9644CC77B8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8998-01C9-4F1F-B7E8-AECB7F31A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0915F-FBD7-4BCF-A74A-233F751C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80755-698B-48BC-BDBC-45FB05D2C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DB693-A088-4D6C-93F7-60BA6A331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6FA0-CCD5-44B4-A8A0-60FF1EC9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4E0DF-EE68-4C4B-B121-F45725C2B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E675-839B-4747-8328-805ED2D6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05EBE-2098-4D4A-A349-F5D03EF80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5FF60-5B55-4BBB-B9D2-8C28CCE9F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1E6F4-BFF2-40E9-8111-83238AFF5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2910E-C861-4410-B95E-33D0B6514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F6CDE-E448-4E5B-A58C-8D3DF157B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08AC4-9B0C-47D3-9739-930C66295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1AA0E-ED55-4D56-9F1F-C7CD0E773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C6E8B-2292-4D27-8C18-627756834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DA958-2902-4678-8D8B-F9DEB6DAB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C8CAE-82D8-48B3-A389-255F8DB83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F2742-9B74-47BE-93BC-D25A9C602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B5DE1-8C15-40AD-A377-5602890DB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BF476-DD3C-4A0B-A1C2-99AAED215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D1129-2447-43CE-9BD3-28FD113A6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1E4A2-A8CC-4F8C-921A-520528569E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CDF614-3155-491A-BD77-8E53CB1CA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89E1E-BBC1-47DB-8A79-ECBD3A208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637AB-003D-49A1-856D-238C8E01E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BAA26-CB71-4A2B-B0DA-CAD5EF099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8066F-A2E5-45EF-87B0-135F01646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5ACBC-3446-4A79-BA8A-2A8DB7E31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3CEF6-6AA4-4D58-9051-AC23205A1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A986C-BA3D-4FDA-A870-8C78E7771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BFB5B-9CAF-4D6A-81FD-89ED9DEF8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AD980-3EFC-4B51-A985-0F20A755B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A48AA-8A3A-4F3C-A2A3-02D8D1375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DA301-926E-4610-BF8B-5DA521DC5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66EC62-3C01-4564-A40E-B9AEDD7BB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AAE523-5A62-4CA6-B87B-EA4E968FE3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F38AF7-51E5-40AE-9359-401376C88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59A6D-4A97-405D-86DF-71817B20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192A4-D160-444B-A9BB-C833ED6DF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CC487-32F4-4201-AE1F-665300CA6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31963-8422-438C-B1FD-32351E1AF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348F90-5C0D-4D80-BD1B-BD7EFA8A8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336ED-62A3-4EE4-98B5-29FF26623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89BF8-3FA0-4805-933F-92AABF137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2BE94-D039-41CC-8476-4BBA84682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A7D53-A71C-41C5-94E4-A5163CF4B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C6DE0-BEAA-4601-A3DD-DD0EFDF843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715DA-F12D-473D-90BC-7D033E983F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D2709-079C-45B0-B027-A4D4D5B1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A93B9-7C2B-4DA1-9824-47BBE75688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F39EF2-C0B5-4B4A-A720-F94312FF8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533B3-ED51-4968-B7A2-DE5633CDC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65D8B6-BE44-4522-B585-A8CC71CC3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98D63-50A3-42A3-9A25-300D5278C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EBCA8-46FD-469E-A293-33DCE56D06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B263B-9502-49D4-B8E7-B11DF4288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11D4D-7023-49AD-9C50-6CC2DDBD2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3DB99-C36E-48CC-BBEE-15D2F9DD9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CE9E9-E1B4-4EBC-AFD8-35E5412F8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B6CE-5009-4763-93FD-7ADD30BB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A644F-113C-4284-B639-180C3A97F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320EF4-3E50-41C0-8A6A-47D3DA9CC7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4BCBF8-5111-4000-BB96-342A4106D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73278E-2D5E-4BDA-8770-41E0384CE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2B020-415A-45B1-8F77-0669E8E37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1D588-5579-4C10-B38D-FC6022B75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99EBEA-31D0-42C4-8183-682AEC7F1F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CB800-C5B7-42CF-A23B-43C38282A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2D60A7-2569-489B-83BB-E3AB4A279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8FE10-BC4B-4858-926F-1EC9AADCC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B3D7-0C75-4D41-8D87-7D9E44F8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7C531-E6EB-406B-86F3-1539E1DEC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D8B19-D6D4-477D-8DD7-EE0EE21D4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F63D6-F961-4429-94DC-5670BD9EE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5592A-D332-4112-973E-9EAD9C6287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BEBDB8-5643-4A44-88B6-7FAA4DECFF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1B2ECE-E352-4368-A104-2B16840D50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0E194-A5B4-4773-8668-CFC88C7EF3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D3435-8E8B-4F18-BA7E-E9B0F2DDD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774BF-0AF9-4689-B37D-5B19D2AB8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B0153-2D3A-4A71-B149-F63EB4A05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2F79-87F7-49A2-BB3D-5B50C9304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1D0E75-303C-4521-AB94-AE2EF5D60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B29EC-8BD8-4B39-B9C7-B54C9F171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45985-F553-4299-9158-B7118A953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3CA17-382D-4592-8180-ED9CA03DD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17CC1-4F0E-4E2E-A50F-BA3E44A66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5180EC-EAEB-4470-8B3D-CB9099EE99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6DD768-3881-4BDE-9632-2260B52F3F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7AD654-8487-4927-BB9A-1CA49286EE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95B58-A404-4204-BB9B-38FA9EA5BF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70F57-A960-4FD3-8110-433C0A0C03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6825-B93A-4D99-8ACC-84B3098D54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C121-C54E-4452-9EF1-DBDDA24278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C294-2D6C-4C84-82F1-32CF055521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C24E-A24C-4A8C-A160-F07364F92E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4A6A-5883-407C-8E78-C868197B38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26D3C-7C83-4FC0-BAB3-EFF9133B43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988E-F10F-4DA7-AB43-46ACD85FFA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3CF5-AB0E-4E1D-BB3C-A1DF077E8C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B81A-100D-49CD-BA8A-EF1377DD4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060F-235E-4F8F-91EC-CAD1E3EC20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2601-CC03-41F6-A9B4-5D6170BC12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CEA5-4DD4-458B-A896-50EFF61168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8F8D-F356-439D-8040-A98B61A402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9120" y="1066680"/>
            <a:ext cx="8666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7 earthquake occurred near the westernmost extension of the Aleutian Island chain.  The epicenter was located 688.6 km (427.9 miles) E of Petropavlovsk-Kamchatsky, Russia, at a depth of 11.7 km below Earth’s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4"/>
          <p:cNvSpPr/>
          <p:nvPr/>
        </p:nvSpPr>
        <p:spPr>
          <a:xfrm>
            <a:off x="4952880" y="2120760"/>
            <a:ext cx="3907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omandorskie Islands are a group of treeless, sparsely populated Russian Bering Sea islands located 175 kilometres east of the Kamchatka Peninsula in the Russian Far Ea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urtesy cortezawwris</a:t>
            </a:r>
            <a:endParaRPr b="0" lang="en-US" sz="1400" spc="-1" strike="noStrike">
              <a:solidFill>
                <a:srgbClr val="000000"/>
              </a:solidFill>
              <a:latin typeface="Arial"/>
            </a:endParaRPr>
          </a:p>
        </p:txBody>
      </p:sp>
      <p:sp>
        <p:nvSpPr>
          <p:cNvPr id="5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pic>
        <p:nvPicPr>
          <p:cNvPr id="545" name="Picture 1" descr=""/>
          <p:cNvPicPr/>
          <p:nvPr/>
        </p:nvPicPr>
        <p:blipFill>
          <a:blip r:embed="rId2"/>
          <a:stretch/>
        </p:blipFill>
        <p:spPr>
          <a:xfrm>
            <a:off x="533520" y="3573360"/>
            <a:ext cx="8229600" cy="3208320"/>
          </a:xfrm>
          <a:prstGeom prst="rect">
            <a:avLst/>
          </a:prstGeom>
          <a:ln w="0">
            <a:noFill/>
          </a:ln>
        </p:spPr>
      </p:pic>
      <p:pic>
        <p:nvPicPr>
          <p:cNvPr id="546" name="Picture 2" descr=""/>
          <p:cNvPicPr/>
          <p:nvPr/>
        </p:nvPicPr>
        <p:blipFill>
          <a:blip r:embed="rId3"/>
          <a:stretch/>
        </p:blipFill>
        <p:spPr>
          <a:xfrm>
            <a:off x="1201680" y="2077920"/>
            <a:ext cx="3684600" cy="18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070520"/>
            <a:ext cx="2127240" cy="2319120"/>
          </a:xfrm>
          <a:prstGeom prst="rect">
            <a:avLst/>
          </a:prstGeom>
          <a:ln w="0">
            <a:noFill/>
          </a:ln>
        </p:spPr>
      </p:pic>
      <p:sp>
        <p:nvSpPr>
          <p:cNvPr id="549"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0"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7 Earthquake</a:t>
            </a:r>
            <a:endParaRPr b="0" lang="en-US" sz="1400" spc="-1" strike="noStrike">
              <a:solidFill>
                <a:srgbClr val="000000"/>
              </a:solidFill>
              <a:latin typeface="Arial"/>
            </a:endParaRPr>
          </a:p>
        </p:txBody>
      </p:sp>
      <p:sp>
        <p:nvSpPr>
          <p:cNvPr id="552" name="TextBox 15"/>
          <p:cNvSpPr/>
          <p:nvPr/>
        </p:nvSpPr>
        <p:spPr>
          <a:xfrm>
            <a:off x="212760" y="1170000"/>
            <a:ext cx="3722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arest island experienced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8" descr="IRIS_TMlogo.png"/>
          <p:cNvPicPr/>
          <p:nvPr/>
        </p:nvPicPr>
        <p:blipFill>
          <a:blip r:embed="rId2"/>
          <a:stretch/>
        </p:blipFill>
        <p:spPr>
          <a:xfrm>
            <a:off x="239760" y="76320"/>
            <a:ext cx="903240" cy="927000"/>
          </a:xfrm>
          <a:prstGeom prst="rect">
            <a:avLst/>
          </a:prstGeom>
          <a:ln w="0">
            <a:noFill/>
          </a:ln>
        </p:spPr>
      </p:pic>
      <p:sp>
        <p:nvSpPr>
          <p:cNvPr id="554"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55" name="Picture 1" descr=""/>
          <p:cNvPicPr/>
          <p:nvPr/>
        </p:nvPicPr>
        <p:blipFill>
          <a:blip r:embed="rId3"/>
          <a:stretch/>
        </p:blipFill>
        <p:spPr>
          <a:xfrm>
            <a:off x="3848040" y="1170000"/>
            <a:ext cx="5111640" cy="5022720"/>
          </a:xfrm>
          <a:prstGeom prst="rect">
            <a:avLst/>
          </a:prstGeom>
          <a:ln w="0">
            <a:noFill/>
          </a:ln>
        </p:spPr>
      </p:pic>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59" name="Picture 8" descr="IRIS_TMlogo.png"/>
          <p:cNvPicPr/>
          <p:nvPr/>
        </p:nvPicPr>
        <p:blipFill>
          <a:blip r:embed="rId1"/>
          <a:stretch/>
        </p:blipFill>
        <p:spPr>
          <a:xfrm>
            <a:off x="239760" y="76320"/>
            <a:ext cx="903240" cy="927000"/>
          </a:xfrm>
          <a:prstGeom prst="rect">
            <a:avLst/>
          </a:prstGeom>
          <a:ln w="0">
            <a:noFill/>
          </a:ln>
        </p:spPr>
      </p:pic>
      <p:sp>
        <p:nvSpPr>
          <p:cNvPr id="560"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61"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2" name="TextBox 18"/>
          <p:cNvSpPr/>
          <p:nvPr/>
        </p:nvSpPr>
        <p:spPr>
          <a:xfrm>
            <a:off x="243000" y="1095480"/>
            <a:ext cx="4405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ea is sparsely populated.  The USGS estimates only 1000 people may have felt moderate shaking.</a:t>
            </a:r>
            <a:endParaRPr b="0" lang="en-US" sz="1800" spc="-1" strike="noStrike">
              <a:solidFill>
                <a:srgbClr val="000000"/>
              </a:solidFill>
              <a:latin typeface="Arial"/>
            </a:endParaRPr>
          </a:p>
        </p:txBody>
      </p:sp>
      <p:pic>
        <p:nvPicPr>
          <p:cNvPr id="563" name="Picture 4" descr=""/>
          <p:cNvPicPr/>
          <p:nvPr/>
        </p:nvPicPr>
        <p:blipFill>
          <a:blip r:embed="rId2"/>
          <a:stretch/>
        </p:blipFill>
        <p:spPr>
          <a:xfrm>
            <a:off x="649440" y="3138480"/>
            <a:ext cx="2474640" cy="3656160"/>
          </a:xfrm>
          <a:prstGeom prst="rect">
            <a:avLst/>
          </a:prstGeom>
          <a:ln w="0">
            <a:noFill/>
          </a:ln>
        </p:spPr>
      </p:pic>
      <p:pic>
        <p:nvPicPr>
          <p:cNvPr id="564" name="Picture 5" descr=""/>
          <p:cNvPicPr/>
          <p:nvPr/>
        </p:nvPicPr>
        <p:blipFill>
          <a:blip r:embed="rId3"/>
          <a:stretch/>
        </p:blipFill>
        <p:spPr>
          <a:xfrm>
            <a:off x="4649760" y="1179360"/>
            <a:ext cx="4303800" cy="4303800"/>
          </a:xfrm>
          <a:prstGeom prst="rect">
            <a:avLst/>
          </a:prstGeom>
          <a:ln w="0">
            <a:noFill/>
          </a:ln>
        </p:spPr>
      </p:pic>
      <p:sp>
        <p:nvSpPr>
          <p:cNvPr id="5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18" descr="IRIS_TMlogo.png"/>
          <p:cNvPicPr/>
          <p:nvPr/>
        </p:nvPicPr>
        <p:blipFill>
          <a:blip r:embed="rId1"/>
          <a:stretch/>
        </p:blipFill>
        <p:spPr>
          <a:xfrm>
            <a:off x="239760" y="76320"/>
            <a:ext cx="903240" cy="927000"/>
          </a:xfrm>
          <a:prstGeom prst="rect">
            <a:avLst/>
          </a:prstGeom>
          <a:ln w="0">
            <a:noFill/>
          </a:ln>
        </p:spPr>
      </p:pic>
      <p:pic>
        <p:nvPicPr>
          <p:cNvPr id="568" name="Picture 4" descr=""/>
          <p:cNvPicPr/>
          <p:nvPr/>
        </p:nvPicPr>
        <p:blipFill>
          <a:blip r:embed="rId2"/>
          <a:srcRect l="12500" t="7775" r="19714" b="6001"/>
          <a:stretch/>
        </p:blipFill>
        <p:spPr>
          <a:xfrm>
            <a:off x="2908440" y="1219320"/>
            <a:ext cx="6197400" cy="4647960"/>
          </a:xfrm>
          <a:prstGeom prst="rect">
            <a:avLst/>
          </a:prstGeom>
          <a:ln w="0">
            <a:noFill/>
          </a:ln>
        </p:spPr>
      </p:pic>
      <p:sp>
        <p:nvSpPr>
          <p:cNvPr id="569" name="TextBox 9"/>
          <p:cNvSpPr/>
          <p:nvPr/>
        </p:nvSpPr>
        <p:spPr>
          <a:xfrm>
            <a:off x="196920" y="1123920"/>
            <a:ext cx="2666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ite arrows on this map show the motion of the Pacific Plate with respect to the North American Plate. The red star is the epicenter of this earthqua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hospheric plates are spherical caps so plate motions are best described as relative rotations. This geometry and the 4000 km length of the Aleutian Trench produce changes in rates and directions of relative plate motion along the Aleutian subduction zone.  </a:t>
            </a:r>
            <a:endParaRPr b="0" lang="en-US" sz="1600" spc="-1" strike="noStrike">
              <a:solidFill>
                <a:srgbClr val="000000"/>
              </a:solidFill>
              <a:latin typeface="Arial"/>
            </a:endParaRPr>
          </a:p>
        </p:txBody>
      </p:sp>
      <p:sp>
        <p:nvSpPr>
          <p:cNvPr id="570" name="TextBox 5"/>
          <p:cNvSpPr/>
          <p:nvPr/>
        </p:nvSpPr>
        <p:spPr>
          <a:xfrm>
            <a:off x="3894120" y="2590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rth American Plate</a:t>
            </a:r>
            <a:endParaRPr b="0" lang="en-US" sz="1800" spc="-1" strike="noStrike">
              <a:solidFill>
                <a:srgbClr val="000000"/>
              </a:solidFill>
              <a:latin typeface="Arial"/>
            </a:endParaRPr>
          </a:p>
        </p:txBody>
      </p:sp>
      <p:sp>
        <p:nvSpPr>
          <p:cNvPr id="571" name="TextBox 18"/>
          <p:cNvSpPr/>
          <p:nvPr/>
        </p:nvSpPr>
        <p:spPr>
          <a:xfrm>
            <a:off x="5952240" y="549756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cific Plate</a:t>
            </a:r>
            <a:endParaRPr b="0" lang="en-US" sz="1800" spc="-1" strike="noStrike">
              <a:solidFill>
                <a:srgbClr val="000000"/>
              </a:solidFill>
              <a:latin typeface="Arial"/>
            </a:endParaRPr>
          </a:p>
        </p:txBody>
      </p:sp>
      <p:sp>
        <p:nvSpPr>
          <p:cNvPr id="572" name="5-Point Star 6"/>
          <p:cNvSpPr/>
          <p:nvPr/>
        </p:nvSpPr>
        <p:spPr>
          <a:xfrm>
            <a:off x="3168720" y="2846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TextBox 7"/>
          <p:cNvSpPr/>
          <p:nvPr/>
        </p:nvSpPr>
        <p:spPr>
          <a:xfrm>
            <a:off x="239760" y="5894280"/>
            <a:ext cx="854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eastern Aleutian Trench, subduction is nearly orthogonal to the plate boundary and thrust faulting dominates. In the western Aleutian Trench, relative plate motion is nearly parallel to the plate boundary and right-lateral strike-slip faulting is common.</a:t>
            </a:r>
            <a:endParaRPr b="0" lang="en-US" sz="1600" spc="-1" strike="noStrike">
              <a:solidFill>
                <a:srgbClr val="000000"/>
              </a:solidFill>
              <a:latin typeface="Arial"/>
            </a:endParaRPr>
          </a:p>
        </p:txBody>
      </p:sp>
      <p:sp>
        <p:nvSpPr>
          <p:cNvPr id="5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7"/>
          <p:cNvSpPr/>
          <p:nvPr/>
        </p:nvSpPr>
        <p:spPr>
          <a:xfrm>
            <a:off x="228600" y="1179360"/>
            <a:ext cx="8620200" cy="29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 this case, the focal mechanism indicates this earthquake occurred as the result of strike-slip faulting. In the westernmost extension of the Aleutian Trench, relative plate motion is nearly parallel to the plate boundary and right-lateral strike-slip faulting is common.</a:t>
            </a:r>
            <a:endParaRPr b="0" lang="en-US" sz="1800" spc="-1" strike="noStrike">
              <a:solidFill>
                <a:srgbClr val="000000"/>
              </a:solidFill>
              <a:latin typeface="Arial"/>
            </a:endParaRPr>
          </a:p>
        </p:txBody>
      </p:sp>
      <p:sp>
        <p:nvSpPr>
          <p:cNvPr id="576" name="TextBox 8"/>
          <p:cNvSpPr/>
          <p:nvPr/>
        </p:nvSpPr>
        <p:spPr>
          <a:xfrm>
            <a:off x="3100320" y="5848200"/>
            <a:ext cx="602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a:t>
            </a:r>
            <a:endParaRPr b="0" lang="en-US" sz="1400" spc="-1" strike="noStrike">
              <a:solidFill>
                <a:srgbClr val="000000"/>
              </a:solidFill>
              <a:latin typeface="Arial"/>
            </a:endParaRPr>
          </a:p>
        </p:txBody>
      </p:sp>
      <p:sp>
        <p:nvSpPr>
          <p:cNvPr id="577"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57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IRIS_TMlogo.png"/>
          <p:cNvPicPr/>
          <p:nvPr/>
        </p:nvPicPr>
        <p:blipFill>
          <a:blip r:embed="rId1"/>
          <a:stretch/>
        </p:blipFill>
        <p:spPr>
          <a:xfrm>
            <a:off x="239760" y="76320"/>
            <a:ext cx="903240" cy="927000"/>
          </a:xfrm>
          <a:prstGeom prst="rect">
            <a:avLst/>
          </a:prstGeom>
          <a:ln w="0">
            <a:noFill/>
          </a:ln>
        </p:spPr>
      </p:pic>
      <p:pic>
        <p:nvPicPr>
          <p:cNvPr id="580" name="Picture 1" descr=""/>
          <p:cNvPicPr/>
          <p:nvPr/>
        </p:nvPicPr>
        <p:blipFill>
          <a:blip r:embed="rId2"/>
          <a:stretch/>
        </p:blipFill>
        <p:spPr>
          <a:xfrm>
            <a:off x="368280" y="4152960"/>
            <a:ext cx="2641680" cy="2217600"/>
          </a:xfrm>
          <a:prstGeom prst="rect">
            <a:avLst/>
          </a:prstGeom>
          <a:ln w="0">
            <a:noFill/>
          </a:ln>
        </p:spPr>
      </p:pic>
      <p:pic>
        <p:nvPicPr>
          <p:cNvPr id="581" name="Picture 2" descr=""/>
          <p:cNvPicPr/>
          <p:nvPr/>
        </p:nvPicPr>
        <p:blipFill>
          <a:blip r:embed="rId3"/>
          <a:stretch/>
        </p:blipFill>
        <p:spPr>
          <a:xfrm>
            <a:off x="4384800" y="4033800"/>
            <a:ext cx="4464000" cy="1581120"/>
          </a:xfrm>
          <a:prstGeom prst="rect">
            <a:avLst/>
          </a:prstGeom>
          <a:ln w="0">
            <a:noFill/>
          </a:ln>
        </p:spPr>
      </p:pic>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rcRect l="609" t="1288" r="929" b="1616"/>
          <a:stretch/>
        </p:blipFill>
        <p:spPr>
          <a:xfrm>
            <a:off x="554040" y="2693880"/>
            <a:ext cx="7358040" cy="4114800"/>
          </a:xfrm>
          <a:prstGeom prst="rect">
            <a:avLst/>
          </a:prstGeom>
          <a:ln w="0">
            <a:noFill/>
          </a:ln>
        </p:spPr>
      </p:pic>
      <p:sp>
        <p:nvSpPr>
          <p:cNvPr id="584" name="Freeform 9"/>
          <p:cNvSpPr/>
          <p:nvPr/>
        </p:nvSpPr>
        <p:spPr>
          <a:xfrm>
            <a:off x="6235560" y="3681360"/>
            <a:ext cx="1490760" cy="1316160"/>
          </a:xfrm>
          <a:custGeom>
            <a:avLst/>
            <a:gdLst/>
            <a:ahLst/>
            <a:rect l="l" t="t" r="r" b="b"/>
            <a:pathLst>
              <a:path w="1490630" h="1316736">
                <a:moveTo>
                  <a:pt x="1161446" y="557784"/>
                </a:moveTo>
                <a:cubicBezTo>
                  <a:pt x="1258200" y="533595"/>
                  <a:pt x="1144264" y="566436"/>
                  <a:pt x="1225454" y="530352"/>
                </a:cubicBezTo>
                <a:cubicBezTo>
                  <a:pt x="1243070" y="522523"/>
                  <a:pt x="1262030" y="518160"/>
                  <a:pt x="1280318" y="512064"/>
                </a:cubicBezTo>
                <a:cubicBezTo>
                  <a:pt x="1289462" y="509016"/>
                  <a:pt x="1298299" y="504810"/>
                  <a:pt x="1307750" y="502920"/>
                </a:cubicBezTo>
                <a:cubicBezTo>
                  <a:pt x="1322990" y="499872"/>
                  <a:pt x="1338476" y="497865"/>
                  <a:pt x="1353470" y="493776"/>
                </a:cubicBezTo>
                <a:cubicBezTo>
                  <a:pt x="1372068" y="488704"/>
                  <a:pt x="1392294" y="486181"/>
                  <a:pt x="1408334" y="475488"/>
                </a:cubicBezTo>
                <a:lnTo>
                  <a:pt x="1463198" y="438912"/>
                </a:lnTo>
                <a:lnTo>
                  <a:pt x="1481486" y="384048"/>
                </a:lnTo>
                <a:lnTo>
                  <a:pt x="1490630" y="356616"/>
                </a:lnTo>
                <a:cubicBezTo>
                  <a:pt x="1487582" y="310896"/>
                  <a:pt x="1486546" y="264997"/>
                  <a:pt x="1481486" y="219456"/>
                </a:cubicBezTo>
                <a:cubicBezTo>
                  <a:pt x="1480422" y="209876"/>
                  <a:pt x="1478363" y="199550"/>
                  <a:pt x="1472342" y="192024"/>
                </a:cubicBezTo>
                <a:cubicBezTo>
                  <a:pt x="1465477" y="183442"/>
                  <a:pt x="1454054" y="179832"/>
                  <a:pt x="1444910" y="173736"/>
                </a:cubicBezTo>
                <a:cubicBezTo>
                  <a:pt x="1438814" y="164592"/>
                  <a:pt x="1435204" y="153169"/>
                  <a:pt x="1426622" y="146304"/>
                </a:cubicBezTo>
                <a:cubicBezTo>
                  <a:pt x="1419096" y="140283"/>
                  <a:pt x="1407616" y="141841"/>
                  <a:pt x="1399190" y="137160"/>
                </a:cubicBezTo>
                <a:cubicBezTo>
                  <a:pt x="1379977" y="126486"/>
                  <a:pt x="1362614" y="112776"/>
                  <a:pt x="1344326" y="100584"/>
                </a:cubicBezTo>
                <a:cubicBezTo>
                  <a:pt x="1336306" y="95237"/>
                  <a:pt x="1325515" y="95751"/>
                  <a:pt x="1316894" y="91440"/>
                </a:cubicBezTo>
                <a:cubicBezTo>
                  <a:pt x="1307064" y="86525"/>
                  <a:pt x="1299505" y="77615"/>
                  <a:pt x="1289462" y="73152"/>
                </a:cubicBezTo>
                <a:lnTo>
                  <a:pt x="1207166" y="45720"/>
                </a:lnTo>
                <a:lnTo>
                  <a:pt x="1124870" y="18288"/>
                </a:lnTo>
                <a:cubicBezTo>
                  <a:pt x="1115726" y="15240"/>
                  <a:pt x="1106789" y="11482"/>
                  <a:pt x="1097438" y="9144"/>
                </a:cubicBezTo>
                <a:lnTo>
                  <a:pt x="1060862" y="0"/>
                </a:lnTo>
                <a:cubicBezTo>
                  <a:pt x="970758" y="5632"/>
                  <a:pt x="944282" y="-1602"/>
                  <a:pt x="877982" y="18288"/>
                </a:cubicBezTo>
                <a:cubicBezTo>
                  <a:pt x="859518" y="23827"/>
                  <a:pt x="839158" y="25883"/>
                  <a:pt x="823118" y="36576"/>
                </a:cubicBezTo>
                <a:lnTo>
                  <a:pt x="795686" y="54864"/>
                </a:lnTo>
                <a:cubicBezTo>
                  <a:pt x="789590" y="64008"/>
                  <a:pt x="785169" y="74525"/>
                  <a:pt x="777398" y="82296"/>
                </a:cubicBezTo>
                <a:cubicBezTo>
                  <a:pt x="769627" y="90067"/>
                  <a:pt x="757203" y="92313"/>
                  <a:pt x="749966" y="100584"/>
                </a:cubicBezTo>
                <a:cubicBezTo>
                  <a:pt x="735492" y="117125"/>
                  <a:pt x="725582" y="137160"/>
                  <a:pt x="713390" y="155448"/>
                </a:cubicBezTo>
                <a:lnTo>
                  <a:pt x="658526" y="237744"/>
                </a:lnTo>
                <a:cubicBezTo>
                  <a:pt x="652430" y="246888"/>
                  <a:pt x="648009" y="257405"/>
                  <a:pt x="640238" y="265176"/>
                </a:cubicBezTo>
                <a:lnTo>
                  <a:pt x="612806" y="292608"/>
                </a:lnTo>
                <a:cubicBezTo>
                  <a:pt x="609758" y="301752"/>
                  <a:pt x="608343" y="311614"/>
                  <a:pt x="603662" y="320040"/>
                </a:cubicBezTo>
                <a:cubicBezTo>
                  <a:pt x="592988" y="339253"/>
                  <a:pt x="574037" y="354052"/>
                  <a:pt x="567086" y="374904"/>
                </a:cubicBezTo>
                <a:cubicBezTo>
                  <a:pt x="560990" y="393192"/>
                  <a:pt x="559491" y="413728"/>
                  <a:pt x="548798" y="429768"/>
                </a:cubicBezTo>
                <a:cubicBezTo>
                  <a:pt x="542702" y="438912"/>
                  <a:pt x="535425" y="447370"/>
                  <a:pt x="530510" y="457200"/>
                </a:cubicBezTo>
                <a:cubicBezTo>
                  <a:pt x="526199" y="465821"/>
                  <a:pt x="525677" y="476011"/>
                  <a:pt x="521366" y="484632"/>
                </a:cubicBezTo>
                <a:cubicBezTo>
                  <a:pt x="516451" y="494462"/>
                  <a:pt x="507541" y="502021"/>
                  <a:pt x="503078" y="512064"/>
                </a:cubicBezTo>
                <a:lnTo>
                  <a:pt x="475646" y="594360"/>
                </a:lnTo>
                <a:lnTo>
                  <a:pt x="466502" y="621792"/>
                </a:lnTo>
                <a:lnTo>
                  <a:pt x="457358" y="649224"/>
                </a:lnTo>
                <a:cubicBezTo>
                  <a:pt x="454310" y="670560"/>
                  <a:pt x="452069" y="692027"/>
                  <a:pt x="448214" y="713232"/>
                </a:cubicBezTo>
                <a:cubicBezTo>
                  <a:pt x="441068" y="752537"/>
                  <a:pt x="439719" y="742964"/>
                  <a:pt x="429926" y="777240"/>
                </a:cubicBezTo>
                <a:cubicBezTo>
                  <a:pt x="427141" y="786989"/>
                  <a:pt x="418086" y="829641"/>
                  <a:pt x="411638" y="841248"/>
                </a:cubicBezTo>
                <a:cubicBezTo>
                  <a:pt x="400964" y="860461"/>
                  <a:pt x="393350" y="883920"/>
                  <a:pt x="375062" y="896112"/>
                </a:cubicBezTo>
                <a:lnTo>
                  <a:pt x="320198" y="932688"/>
                </a:lnTo>
                <a:cubicBezTo>
                  <a:pt x="271430" y="1005840"/>
                  <a:pt x="335438" y="917448"/>
                  <a:pt x="274478" y="978408"/>
                </a:cubicBezTo>
                <a:cubicBezTo>
                  <a:pt x="233118" y="1019768"/>
                  <a:pt x="282162" y="997183"/>
                  <a:pt x="228758" y="1014984"/>
                </a:cubicBezTo>
                <a:cubicBezTo>
                  <a:pt x="210470" y="1033272"/>
                  <a:pt x="195413" y="1055502"/>
                  <a:pt x="173894" y="1069848"/>
                </a:cubicBezTo>
                <a:cubicBezTo>
                  <a:pt x="155606" y="1082040"/>
                  <a:pt x="134572" y="1090882"/>
                  <a:pt x="119030" y="1106424"/>
                </a:cubicBezTo>
                <a:cubicBezTo>
                  <a:pt x="95361" y="1130093"/>
                  <a:pt x="69546" y="1159495"/>
                  <a:pt x="36734" y="1170432"/>
                </a:cubicBezTo>
                <a:lnTo>
                  <a:pt x="9302" y="1179576"/>
                </a:lnTo>
                <a:cubicBezTo>
                  <a:pt x="-3139" y="1216898"/>
                  <a:pt x="-3063" y="1200307"/>
                  <a:pt x="9302" y="1243584"/>
                </a:cubicBezTo>
                <a:cubicBezTo>
                  <a:pt x="11950" y="1252852"/>
                  <a:pt x="11630" y="1264200"/>
                  <a:pt x="18446" y="1271016"/>
                </a:cubicBezTo>
                <a:cubicBezTo>
                  <a:pt x="25262" y="1277832"/>
                  <a:pt x="37257" y="1275849"/>
                  <a:pt x="45878" y="1280160"/>
                </a:cubicBezTo>
                <a:cubicBezTo>
                  <a:pt x="55708" y="1285075"/>
                  <a:pt x="63267" y="1293985"/>
                  <a:pt x="73310" y="1298448"/>
                </a:cubicBezTo>
                <a:cubicBezTo>
                  <a:pt x="90926" y="1306277"/>
                  <a:pt x="128174" y="1316736"/>
                  <a:pt x="128174" y="1316736"/>
                </a:cubicBezTo>
                <a:cubicBezTo>
                  <a:pt x="167798" y="1313688"/>
                  <a:pt x="207791" y="1313790"/>
                  <a:pt x="247046" y="1307592"/>
                </a:cubicBezTo>
                <a:cubicBezTo>
                  <a:pt x="266087" y="1304585"/>
                  <a:pt x="301910" y="1289304"/>
                  <a:pt x="301910" y="1289304"/>
                </a:cubicBezTo>
                <a:cubicBezTo>
                  <a:pt x="342810" y="1227953"/>
                  <a:pt x="294629" y="1288062"/>
                  <a:pt x="347630" y="1252728"/>
                </a:cubicBezTo>
                <a:cubicBezTo>
                  <a:pt x="358390" y="1245555"/>
                  <a:pt x="364854" y="1233235"/>
                  <a:pt x="375062" y="1225296"/>
                </a:cubicBezTo>
                <a:cubicBezTo>
                  <a:pt x="392412" y="1211802"/>
                  <a:pt x="411638" y="1200912"/>
                  <a:pt x="429926" y="1188720"/>
                </a:cubicBezTo>
                <a:lnTo>
                  <a:pt x="457358" y="1170432"/>
                </a:lnTo>
                <a:cubicBezTo>
                  <a:pt x="463454" y="1161288"/>
                  <a:pt x="467375" y="1150237"/>
                  <a:pt x="475646" y="1143000"/>
                </a:cubicBezTo>
                <a:cubicBezTo>
                  <a:pt x="492187" y="1128526"/>
                  <a:pt x="530510" y="1106424"/>
                  <a:pt x="530510" y="1106424"/>
                </a:cubicBezTo>
                <a:cubicBezTo>
                  <a:pt x="542702" y="1088136"/>
                  <a:pt x="548798" y="1063752"/>
                  <a:pt x="567086" y="1051560"/>
                </a:cubicBezTo>
                <a:lnTo>
                  <a:pt x="621950" y="1014984"/>
                </a:lnTo>
                <a:cubicBezTo>
                  <a:pt x="631094" y="1008888"/>
                  <a:pt x="641611" y="1004467"/>
                  <a:pt x="649382" y="996696"/>
                </a:cubicBezTo>
                <a:cubicBezTo>
                  <a:pt x="658526" y="987552"/>
                  <a:pt x="666606" y="977203"/>
                  <a:pt x="676814" y="969264"/>
                </a:cubicBezTo>
                <a:lnTo>
                  <a:pt x="759110" y="914400"/>
                </a:lnTo>
                <a:lnTo>
                  <a:pt x="786542" y="896112"/>
                </a:lnTo>
                <a:cubicBezTo>
                  <a:pt x="795686" y="890016"/>
                  <a:pt x="806203" y="885595"/>
                  <a:pt x="813974" y="877824"/>
                </a:cubicBezTo>
                <a:cubicBezTo>
                  <a:pt x="894117" y="797681"/>
                  <a:pt x="792455" y="895757"/>
                  <a:pt x="868838" y="832104"/>
                </a:cubicBezTo>
                <a:cubicBezTo>
                  <a:pt x="912552" y="795675"/>
                  <a:pt x="881864" y="816473"/>
                  <a:pt x="914558" y="777240"/>
                </a:cubicBezTo>
                <a:cubicBezTo>
                  <a:pt x="922837" y="767306"/>
                  <a:pt x="933711" y="759742"/>
                  <a:pt x="941990" y="749808"/>
                </a:cubicBezTo>
                <a:cubicBezTo>
                  <a:pt x="949025" y="741365"/>
                  <a:pt x="953243" y="730819"/>
                  <a:pt x="960278" y="722376"/>
                </a:cubicBezTo>
                <a:cubicBezTo>
                  <a:pt x="968557" y="712442"/>
                  <a:pt x="979771" y="705152"/>
                  <a:pt x="987710" y="694944"/>
                </a:cubicBezTo>
                <a:cubicBezTo>
                  <a:pt x="1045153" y="621089"/>
                  <a:pt x="998612" y="657196"/>
                  <a:pt x="1051718" y="621792"/>
                </a:cubicBezTo>
                <a:cubicBezTo>
                  <a:pt x="1057814" y="612648"/>
                  <a:pt x="1061424" y="601225"/>
                  <a:pt x="1070006" y="594360"/>
                </a:cubicBezTo>
                <a:cubicBezTo>
                  <a:pt x="1077532" y="588339"/>
                  <a:pt x="1088817" y="589527"/>
                  <a:pt x="1097438" y="585216"/>
                </a:cubicBezTo>
                <a:cubicBezTo>
                  <a:pt x="1172407" y="547731"/>
                  <a:pt x="1052475" y="574168"/>
                  <a:pt x="1216310" y="557784"/>
                </a:cubicBezTo>
                <a:lnTo>
                  <a:pt x="1252886" y="548640"/>
                </a:lnTo>
              </a:path>
            </a:pathLst>
          </a:custGeom>
          <a:solidFill>
            <a:srgbClr val="f79646">
              <a:alpha val="49000"/>
            </a:srgbClr>
          </a:solidFill>
          <a:ln w="25560">
            <a:solidFill>
              <a:srgbClr val="f7964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IRIS_TMlogo.png"/>
          <p:cNvPicPr/>
          <p:nvPr/>
        </p:nvPicPr>
        <p:blipFill>
          <a:blip r:embed="rId2"/>
          <a:stretch/>
        </p:blipFill>
        <p:spPr>
          <a:xfrm>
            <a:off x="239760" y="76320"/>
            <a:ext cx="903240" cy="927000"/>
          </a:xfrm>
          <a:prstGeom prst="rect">
            <a:avLst/>
          </a:prstGeom>
          <a:ln w="0">
            <a:noFill/>
          </a:ln>
        </p:spPr>
      </p:pic>
      <p:sp>
        <p:nvSpPr>
          <p:cNvPr id="587" name="TextBox 18"/>
          <p:cNvSpPr/>
          <p:nvPr/>
        </p:nvSpPr>
        <p:spPr>
          <a:xfrm>
            <a:off x="228600" y="1828800"/>
            <a:ext cx="4422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9"/>
          <p:cNvSpPr/>
          <p:nvPr/>
        </p:nvSpPr>
        <p:spPr>
          <a:xfrm>
            <a:off x="239760" y="880920"/>
            <a:ext cx="876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below shows the locations of the most recent 2767 earthquakes of magnitude </a:t>
            </a:r>
            <a:r>
              <a:rPr b="0" lang="en-US" sz="1600" spc="-1" strike="noStrike" u="sng">
                <a:solidFill>
                  <a:srgbClr val="000000"/>
                </a:solidFill>
                <a:uFillTx/>
                <a:latin typeface="Arial"/>
              </a:rPr>
              <a:t>&gt;</a:t>
            </a:r>
            <a:r>
              <a:rPr b="0" lang="en-US" sz="1600" spc="-1" strike="noStrike">
                <a:solidFill>
                  <a:srgbClr val="000000"/>
                </a:solidFill>
                <a:latin typeface="Arial"/>
              </a:rPr>
              <a:t> 5.0 in the region.  Magnitude and depth scales are shown on the right.  The epicenter of the July 17, 2017 earthquake is labeled near the western end of the Aleutian Trench.  Earthquakes deeper than 100 km are within the subducting Pacific Plate.  According to the USGS, six great (M&gt;8) earthquakes have occurred on the shallow megathrust plate boundary since 1906.  The rupture zone of the 1964 Alaska earthquake is shown in orange.  At M9.2, this was the second largest earthquake recorded by modern seismometers.</a:t>
            </a:r>
            <a:endParaRPr b="0" lang="en-US" sz="1600" spc="-1" strike="noStrike">
              <a:solidFill>
                <a:srgbClr val="000000"/>
              </a:solidFill>
              <a:latin typeface="Arial"/>
            </a:endParaRPr>
          </a:p>
        </p:txBody>
      </p:sp>
      <p:pic>
        <p:nvPicPr>
          <p:cNvPr id="589" name="Picture 1" descr=""/>
          <p:cNvPicPr/>
          <p:nvPr/>
        </p:nvPicPr>
        <p:blipFill>
          <a:blip r:embed="rId3"/>
          <a:srcRect l="5556" t="1882" r="7022" b="1364"/>
          <a:stretch/>
        </p:blipFill>
        <p:spPr>
          <a:xfrm>
            <a:off x="8221680" y="3532320"/>
            <a:ext cx="506520" cy="2931840"/>
          </a:xfrm>
          <a:prstGeom prst="rect">
            <a:avLst/>
          </a:prstGeom>
          <a:ln w="0">
            <a:noFill/>
          </a:ln>
        </p:spPr>
      </p:pic>
      <p:pic>
        <p:nvPicPr>
          <p:cNvPr id="590" name="Picture 1" descr=""/>
          <p:cNvPicPr/>
          <p:nvPr/>
        </p:nvPicPr>
        <p:blipFill>
          <a:blip r:embed="rId4"/>
          <a:srcRect l="2854" t="16030" r="36914" b="16621"/>
          <a:stretch/>
        </p:blipFill>
        <p:spPr>
          <a:xfrm>
            <a:off x="7980480" y="2695680"/>
            <a:ext cx="1062000" cy="549000"/>
          </a:xfrm>
          <a:prstGeom prst="rect">
            <a:avLst/>
          </a:prstGeom>
          <a:ln w="0">
            <a:noFill/>
          </a:ln>
        </p:spPr>
      </p:pic>
      <p:sp>
        <p:nvSpPr>
          <p:cNvPr id="591" name="TextBox 4"/>
          <p:cNvSpPr/>
          <p:nvPr/>
        </p:nvSpPr>
        <p:spPr>
          <a:xfrm>
            <a:off x="4507560" y="627840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cific Plate</a:t>
            </a:r>
            <a:endParaRPr b="0" lang="en-US" sz="1800" spc="-1" strike="noStrike">
              <a:solidFill>
                <a:srgbClr val="000000"/>
              </a:solidFill>
              <a:latin typeface="Arial"/>
            </a:endParaRPr>
          </a:p>
        </p:txBody>
      </p:sp>
      <p:sp>
        <p:nvSpPr>
          <p:cNvPr id="592" name="TextBox 16"/>
          <p:cNvSpPr/>
          <p:nvPr/>
        </p:nvSpPr>
        <p:spPr>
          <a:xfrm>
            <a:off x="2481120" y="331164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rth American Plate</a:t>
            </a:r>
            <a:endParaRPr b="0" lang="en-US" sz="1800" spc="-1" strike="noStrike">
              <a:solidFill>
                <a:srgbClr val="000000"/>
              </a:solidFill>
              <a:latin typeface="Arial"/>
            </a:endParaRPr>
          </a:p>
        </p:txBody>
      </p:sp>
      <p:sp>
        <p:nvSpPr>
          <p:cNvPr id="593" name="TextBox 19"/>
          <p:cNvSpPr/>
          <p:nvPr/>
        </p:nvSpPr>
        <p:spPr>
          <a:xfrm>
            <a:off x="1145160" y="4691160"/>
            <a:ext cx="128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ly 17, 2017</a:t>
            </a:r>
            <a:endParaRPr b="0" lang="en-US" sz="1400" spc="-1" strike="noStrike">
              <a:solidFill>
                <a:srgbClr val="000000"/>
              </a:solidFill>
              <a:latin typeface="Arial"/>
            </a:endParaRPr>
          </a:p>
        </p:txBody>
      </p:sp>
      <p:cxnSp>
        <p:nvCxnSpPr>
          <p:cNvPr id="594" name="Straight Arrow Connector 7"/>
          <p:cNvCxnSpPr/>
          <p:nvPr/>
        </p:nvCxnSpPr>
        <p:spPr>
          <a:xfrm flipH="1">
            <a:off x="1447200" y="4998960"/>
            <a:ext cx="229320" cy="364320"/>
          </a:xfrm>
          <a:prstGeom prst="straightConnector1">
            <a:avLst/>
          </a:prstGeom>
          <a:ln w="25560">
            <a:solidFill>
              <a:srgbClr val="ffffff"/>
            </a:solidFill>
            <a:miter/>
            <a:tailEnd len="med" type="arrow" w="med"/>
          </a:ln>
        </p:spPr>
      </p:cxnSp>
      <p:sp>
        <p:nvSpPr>
          <p:cNvPr id="595" name="TextBox 10"/>
          <p:cNvSpPr/>
          <p:nvPr/>
        </p:nvSpPr>
        <p:spPr>
          <a:xfrm rot="18797400">
            <a:off x="6446880" y="40575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64 M9.2</a:t>
            </a:r>
            <a:endParaRPr b="0" lang="en-US" sz="1800" spc="-1" strike="noStrike">
              <a:solidFill>
                <a:srgbClr val="000000"/>
              </a:solidFill>
              <a:latin typeface="Arial"/>
            </a:endParaRPr>
          </a:p>
        </p:txBody>
      </p:sp>
      <p:sp>
        <p:nvSpPr>
          <p:cNvPr id="5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1" descr=""/>
          <p:cNvPicPr/>
          <p:nvPr/>
        </p:nvPicPr>
        <p:blipFill>
          <a:blip r:embed="rId1"/>
          <a:srcRect l="986" t="0" r="0" b="0"/>
          <a:stretch/>
        </p:blipFill>
        <p:spPr>
          <a:xfrm>
            <a:off x="1157400" y="1312920"/>
            <a:ext cx="7503840" cy="5486400"/>
          </a:xfrm>
          <a:prstGeom prst="rect">
            <a:avLst/>
          </a:prstGeom>
          <a:ln w="0">
            <a:noFill/>
          </a:ln>
        </p:spPr>
      </p:pic>
      <p:sp>
        <p:nvSpPr>
          <p:cNvPr id="5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18" descr="IRIS_TMlogo.png"/>
          <p:cNvPicPr/>
          <p:nvPr/>
        </p:nvPicPr>
        <p:blipFill>
          <a:blip r:embed="rId2"/>
          <a:stretch/>
        </p:blipFill>
        <p:spPr>
          <a:xfrm>
            <a:off x="239760" y="76320"/>
            <a:ext cx="903240" cy="927000"/>
          </a:xfrm>
          <a:prstGeom prst="rect">
            <a:avLst/>
          </a:prstGeom>
          <a:ln w="0">
            <a:noFill/>
          </a:ln>
        </p:spPr>
      </p:pic>
      <p:sp>
        <p:nvSpPr>
          <p:cNvPr id="600" name="TextBox 4"/>
          <p:cNvSpPr/>
          <p:nvPr/>
        </p:nvSpPr>
        <p:spPr>
          <a:xfrm>
            <a:off x="1941480" y="348444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8 minutes and 11</a:t>
            </a:r>
            <a:r>
              <a:rPr b="0" lang="en-US" sz="1400" spc="-1" strike="noStrike">
                <a:solidFill>
                  <a:srgbClr val="ff0000"/>
                </a:solidFill>
                <a:latin typeface="Arial"/>
                <a:ea typeface="ＭＳ Ｐゴシック"/>
              </a:rPr>
              <a:t> </a:t>
            </a:r>
            <a:r>
              <a:rPr b="0" lang="en-US" sz="1400" spc="-1" strike="noStrike">
                <a:solidFill>
                  <a:srgbClr val="000000"/>
                </a:solidFill>
                <a:latin typeface="Arial"/>
                <a:ea typeface="ＭＳ Ｐゴシック"/>
              </a:rPr>
              <a:t>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601" name="TextBox 7"/>
          <p:cNvSpPr/>
          <p:nvPr/>
        </p:nvSpPr>
        <p:spPr>
          <a:xfrm>
            <a:off x="1744560" y="828720"/>
            <a:ext cx="663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a:t>
            </a:r>
            <a:br>
              <a:rPr sz="1400"/>
            </a:br>
            <a:r>
              <a:rPr b="0" lang="en-US" sz="1400" spc="-1" strike="noStrike">
                <a:solidFill>
                  <a:srgbClr val="000000"/>
                </a:solidFill>
                <a:latin typeface="Arial"/>
                <a:ea typeface="ＭＳ Ｐゴシック"/>
              </a:rPr>
              <a:t>Bend is 4982 km (3096 miles, 44.9°) from the location of this earthquake. </a:t>
            </a:r>
            <a:endParaRPr b="0" lang="en-US" sz="1400" spc="-1" strike="noStrike">
              <a:solidFill>
                <a:srgbClr val="000000"/>
              </a:solidFill>
              <a:latin typeface="Arial"/>
            </a:endParaRPr>
          </a:p>
        </p:txBody>
      </p:sp>
      <p:sp>
        <p:nvSpPr>
          <p:cNvPr id="602" name="TextBox 6"/>
          <p:cNvSpPr/>
          <p:nvPr/>
        </p:nvSpPr>
        <p:spPr>
          <a:xfrm>
            <a:off x="1628640" y="4998960"/>
            <a:ext cx="7391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4982 km (3096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pproximately 26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603" name="TextBox 9"/>
          <p:cNvSpPr/>
          <p:nvPr/>
        </p:nvSpPr>
        <p:spPr>
          <a:xfrm>
            <a:off x="1895400" y="42400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14 minutes and 46</a:t>
            </a:r>
            <a:r>
              <a:rPr b="0" lang="en-US" sz="1400" spc="-1" strike="noStrike">
                <a:solidFill>
                  <a:srgbClr val="ff0000"/>
                </a:solidFill>
                <a:latin typeface="Arial"/>
                <a:ea typeface="ＭＳ Ｐゴシック"/>
              </a:rPr>
              <a:t>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604" name="TextBox 4"/>
          <p:cNvSpPr/>
          <p:nvPr/>
        </p:nvSpPr>
        <p:spPr>
          <a:xfrm>
            <a:off x="2971800" y="20224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P</a:t>
            </a:r>
            <a:endParaRPr b="0" lang="en-US" sz="1800" spc="-1" strike="noStrike">
              <a:solidFill>
                <a:srgbClr val="000000"/>
              </a:solidFill>
              <a:latin typeface="Arial"/>
            </a:endParaRPr>
          </a:p>
        </p:txBody>
      </p:sp>
      <p:sp>
        <p:nvSpPr>
          <p:cNvPr id="605" name="TextBox 11"/>
          <p:cNvSpPr/>
          <p:nvPr/>
        </p:nvSpPr>
        <p:spPr>
          <a:xfrm>
            <a:off x="4269600" y="213048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S</a:t>
            </a:r>
            <a:endParaRPr b="0" lang="en-US" sz="1800" spc="-1" strike="noStrike">
              <a:solidFill>
                <a:srgbClr val="000000"/>
              </a:solidFill>
              <a:latin typeface="Arial"/>
            </a:endParaRPr>
          </a:p>
        </p:txBody>
      </p:sp>
      <p:sp>
        <p:nvSpPr>
          <p:cNvPr id="606" name="TextBox 11"/>
          <p:cNvSpPr/>
          <p:nvPr/>
        </p:nvSpPr>
        <p:spPr>
          <a:xfrm>
            <a:off x="6253200" y="1940040"/>
            <a:ext cx="2152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Surface Waves</a:t>
            </a:r>
            <a:endParaRPr b="0" lang="en-US" sz="1800" spc="-1" strike="noStrike">
              <a:solidFill>
                <a:srgbClr val="000000"/>
              </a:solidFill>
              <a:latin typeface="Arial"/>
            </a:endParaRPr>
          </a:p>
        </p:txBody>
      </p:sp>
      <p:sp>
        <p:nvSpPr>
          <p:cNvPr id="607" name="Rectangle 2"/>
          <p:cNvSpPr/>
          <p:nvPr/>
        </p:nvSpPr>
        <p:spPr>
          <a:xfrm>
            <a:off x="6553080" y="5638680"/>
            <a:ext cx="2108160" cy="685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KOMANDORSKIYE OSTROVA, RUSSIA</a:t>
            </a:r>
            <a:br>
              <a:rPr sz="3500"/>
            </a:br>
            <a:r>
              <a:rPr b="1" lang="en-US" sz="1500" spc="-1" strike="noStrike">
                <a:solidFill>
                  <a:srgbClr val="11488b"/>
                </a:solidFill>
                <a:latin typeface="Arial"/>
                <a:ea typeface="Arial"/>
              </a:rPr>
              <a:t>Monday,  July 17, 2017 at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1" descr=""/>
          <p:cNvPicPr/>
          <p:nvPr/>
        </p:nvPicPr>
        <p:blipFill>
          <a:blip r:embed="rId3"/>
          <a:stretch/>
        </p:blipFill>
        <p:spPr>
          <a:xfrm>
            <a:off x="6400800" y="5262480"/>
            <a:ext cx="2413080" cy="1281240"/>
          </a:xfrm>
          <a:prstGeom prst="rect">
            <a:avLst/>
          </a:prstGeom>
          <a:ln w="0">
            <a:noFill/>
          </a:ln>
        </p:spPr>
      </p:pic>
      <p:pic>
        <p:nvPicPr>
          <p:cNvPr id="612" name="Picture 1" descr=""/>
          <p:cNvPicPr/>
          <p:nvPr/>
        </p:nvPicPr>
        <p:blipFill>
          <a:blip r:embed="rId4"/>
          <a:stretch/>
        </p:blipFill>
        <p:spPr>
          <a:xfrm>
            <a:off x="709560" y="5337000"/>
            <a:ext cx="1200240" cy="1206720"/>
          </a:xfrm>
          <a:prstGeom prst="rect">
            <a:avLst/>
          </a:prstGeom>
          <a:ln w="0">
            <a:noFill/>
          </a:ln>
        </p:spPr>
      </p:pic>
      <p:sp>
        <p:nvSpPr>
          <p:cNvPr id="613"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14"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4"/>
                    </p:tgtEl>
                  </p:cond>
                </p:stCondLst>
                <p:childTnLst>
                  <p:par>
                    <p:cTn id="8" nodeType="clickEffect" fill="hold">
                      <p:stCondLst>
                        <p:cond evt="onClick">
                          <p:tgtEl>
                            <p:spTgt spid="614"/>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7-07-18T04:57:23Z</dcterms:modified>
  <cp:revision>740</cp:revision>
  <dc:subject/>
  <dc:title>Slide 1</dc:title>
</cp:coreProperties>
</file>